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A5EF-6C6F-40C2-AF03-F3D3CB9A3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8DE-18B6-4066-8625-CB4143A4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E16-0510-4C18-97DB-4D3AA9A7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FF5-3A06-43D6-9E9E-01BC396A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77D-F573-4EDC-85BA-39EBDD61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D7CD-C3EA-472A-8D7E-C30D3E0C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F1BF-5BC6-4E4A-88E8-6C38208C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3AA0-E336-4FB7-889A-305D4BC6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F386-C04D-4937-B549-1F412001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211F-B438-4AB4-B3F3-42DFF3A4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49DD-8CC7-49C5-887A-775C1578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23D7-CD70-466C-9D63-737A575C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C4E-3966-4C49-8A1B-4E16F5E1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1B72-AD4E-432C-AD17-A191CBF8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AFED-C1C5-4369-8EBA-FF036543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6654-ABEB-41B8-9BF6-FE4B5695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B19D-2DF1-4651-A5D8-936D5FD9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5E75-F224-45A5-AA95-0444AD52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E05-D6EA-45C1-A152-F92045DE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D16-618A-4F55-B04C-166C0193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3A7-C2FC-4646-B112-D6BF7214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C0F-2A43-4D46-8FF3-9E5EB6EB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820-F0DE-43C7-B893-14B9BB1E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250-6312-46D2-BC69-3481FCDE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0FB-F2CC-4578-8A0B-30EECC45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D953-7917-4549-84DE-2ECA8523A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4524-B744-4C71-863D-907E21A3E60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5000" y="2422440"/>
            <a:ext cx="889632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876920" y="2778120"/>
            <a:ext cx="373356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914400" y="2392200"/>
            <a:ext cx="7543800" cy="44658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4876920" y="2486160"/>
            <a:ext cx="4038480" cy="315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24080" cy="2776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60680" cy="4135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81560" y="2346120"/>
            <a:ext cx="3749760" cy="39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09:55:04Z</dcterms:created>
  <dc:creator>Physics Department</dc:creator>
  <dc:description>Healthy Bodies. The Lungs and Breathing.</dc:description>
  <cp:keywords>Healthy Bodies. The Lungs and Breathing.</cp:keywords>
  <dc:language>en-US</dc:language>
  <cp:lastModifiedBy>LEGION2</cp:lastModifiedBy>
  <dcterms:modified xsi:type="dcterms:W3CDTF">2016-01-14T09:31:28Z</dcterms:modified>
  <cp:revision>63</cp:revision>
  <dc:subject/>
  <dc:title>Healthy Bodies. The Lungs and Breathing.</dc:title>
</cp:coreProperties>
</file>